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1A8-40D1-4C3F-8A46-3192F3AB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9F0-A307-4B4C-B127-0287855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88E-0083-46BF-9D19-6C1E85EA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FF3-6581-4AE9-BBBA-B3DD6C91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F82F-89E1-4461-BC82-00E5F952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AEA6-E650-4812-9D15-FEFE699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336-873F-4E83-86D5-3F70F462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1F8B-0F8A-483C-863F-FBE75756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83AC-5533-4679-A2C9-883F289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94B7-AF84-4C21-B830-57807229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A7BC-57DE-4191-8F7E-5C48A49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537-8007-4FFE-AA85-D8A0FECC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6473-006F-4CCE-AAEC-1625A6CE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B6CE-9628-43C2-AE97-A6A9772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59B-61A0-4E5D-8EB8-168AB0AB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9C73-0FDB-4148-BA62-12A60548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223B-CF1F-4ADC-A53F-DAE1D763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D0BA-6638-4227-9116-1D09D842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84DC-4914-47AC-900F-8E884F2B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B662-1347-4B36-A5E5-55D524D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FC3C-4DF4-40E9-83C8-D1D22EB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D83B-5FA7-48DF-A0C6-2F3AEF89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795-8846-45EE-BE16-B7B612DE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1B0A-1C4E-478B-8BF6-0A340EA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70DA-FA16-4B9B-986A-3C0FEF4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56B1-3AC9-470D-9ECF-21C5225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F78D-9F6A-4464-9C3E-9DC824F4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106C-4A5D-4947-9284-C0FBBB12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733F-1EED-49E4-864E-4765F4A1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1D6A-BD1F-4187-9230-78772C5E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D6DF-BBFE-4B3D-A10E-80F57C9D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584B-C768-4B94-963D-B2B1DDFA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503E-A3AD-4576-87FE-E2EF638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1D9-E85A-4CC9-8B6F-030BE9EF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A079-752A-46C6-A51D-0C6FD2E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D052-C3D7-4523-8B0E-22AC0813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39287-C87C-4DF0-928F-7190F5F7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6B4D6-A3E1-42AD-80A7-2C5D3A2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0532-7AA4-47C2-B4CB-C28935F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8344-C43E-4882-BA52-3D249C5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5CF0-EE37-414C-AAA3-ED1A96E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7392-C98A-47B8-8580-B9E049E6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2FA4-1E0C-40D0-89D2-7D9B6D5E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D06-A86E-49C1-8C22-43B983F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FDB-AD4D-4DFE-B409-D330349B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AE4-EE56-4273-84C3-E54006F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B61-2533-4BD5-BF5A-6EC3D86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560-CB93-4D90-B4F9-DB06B55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2F28-8E4D-49A4-BEAF-96BB76F02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3ED-E4C1-495B-85C3-14693395EF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B6C-9856-439A-B73A-319CC7096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9BB4-19EB-4EA0-9032-F33BDD5C6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" TargetMode="External"/><Relationship Id="rId3" Type="http://schemas.openxmlformats.org/officeDocument/2006/relationships/hyperlink" Target="http://video.google.ca/" TargetMode="External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0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oth allow import of raw video foo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t, paste and move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music and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titles and still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t-in spe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 to .wmv or .mov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e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fil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C – Movie Maker - 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ple – iMovie - 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forma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player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Computers should have all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players – FREE download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play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400" y="11430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re are four websites that can help you with more tricks and tips to create great videos – in and out of y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ort Course in Digital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Guide to making Student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Make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 iMov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aking GREAT Vide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762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On-line video storage and sharing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You Tube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Google Vide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owth of video storage sites has grown in past few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 digital video cameras, easy-editing software on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without issues, but can be used for educational purposes with proper supervision an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ows easily accessible uploading, storage and sharing of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re / share your ow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able tags - Find other videos for your projec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le to embed videos from Google and You Tube into blogs, wikis and other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acher and studen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ideo.google.ca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d to have VHS videos that we played on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cience, Social Studies most 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rd to find, acquire,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created videos (MovieMaker / iMovie), formats,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video resources – Web based streaming video sources (media, educational vide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right – software, images,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Copyright – music downlo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05120" y="17521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 of a few new educational streaming video servic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nual license,          school or district           fee based on              stude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3057480" cy="223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archable / downloa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REE trials available – but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ww.unitedstreaming.co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4647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other new educational streaming video servic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nual license, school or district fee based on schoo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477120" y="3048120"/>
            <a:ext cx="2133360" cy="102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rver-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able / not-downlo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safarivideonetwork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REAL material has an owner – individual or col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01318"/>
                </a:solidFill>
                <a:latin typeface="Arial"/>
              </a:rPr>
              <a:t>House, car, computer, book, tre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about digit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o owns pictures, music and video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at rights do they have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How does this affect us as educators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or owns copyright       automatically – no need to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material treated same as physic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hotos, drawings, recordings, software, etc. are all owned by individual or organization that created them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Copyright symbol"/>
          <p:cNvPicPr/>
          <p:nvPr/>
        </p:nvPicPr>
        <p:blipFill>
          <a:blip r:embed="rId2"/>
          <a:stretch/>
        </p:blipFill>
        <p:spPr>
          <a:xfrm>
            <a:off x="6781680" y="152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419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have an obligation to model good citizenship and educate our students on digital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71296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opyright free 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Web search, NB DO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reative commons licen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Flickr – advanced 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ake your ow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other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purchased music or video, do not reproduce on Interne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Videos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only original softwar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rial and freeware OK within terms of u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Don’t use file-sharing service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itation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n researching information, it is acceptable to quote or refer to ideas and data expressed as part of presentations o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ant that credit be given to original creator / author in the form of a citation or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rmally at end of document o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n to re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resent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Vide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to re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Original works or papers (books, articles, etc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hotos or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Dat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, both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AP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ML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Reference to author, publisher, title, year of publication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Slight differences depending on what you are referenc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ols for Referenc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liu.edu/CWIS/CWP/library/workshop/citapa.ht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itation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ndmarks for School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landmark-project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you believe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ile-sharing music or vide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out paying for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legal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f not, why are so many of 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oung people doing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5715000" cy="5357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Plans du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Presentations start next 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&amp; Pee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 of presentations on the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cation is really just about telling ou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deo can be used at all ages and in all curricula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deo Field Trip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Media Club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are with other classes &amp; school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create videos to share what they know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 way to build cross-curricular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teracy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boar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 / Dra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torycenter.org/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y video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Video Camer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ill 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with Digital Video Editing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XP – Movie Mak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cintosh - iMovi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you need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886040" cy="185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Editing Video – Movie Maker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433920" cy="463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 – iMovi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2-20T03:34:00Z</dcterms:modified>
  <cp:revision>32</cp:revision>
  <dc:subject/>
  <dc:title>Welcome to  ED3862</dc:title>
</cp:coreProperties>
</file>